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31.jpeg" ContentType="image/jpeg"/>
  <Override PartName="/ppt/media/image40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41.jpeg" ContentType="image/jpeg"/>
  <Override PartName="/ppt/media/image42.png" ContentType="image/png"/>
  <Override PartName="/ppt/media/image43.png" ContentType="image/pn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26B-28BC-4D0A-8726-8F0E02D0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042-9F06-4530-8EC5-A8957CBE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023-85BA-41F9-B7A8-E4613CE7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B32-D018-48B8-9BE6-EDDAAAFB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279-FC58-424E-8E5D-F4DF115D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A36-0468-441E-A07A-12AAFFAA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F53-406F-439E-AB12-C61A6307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5CD-132D-4629-9F0E-66A5AA77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B91-E410-465E-8DAE-0745A13F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799-5EF6-4721-8C29-CAFF4B73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070-54E6-42EF-AD37-4FC6D30A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87F-1A54-427B-8A71-44024C5A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6358-C217-489E-ACF4-0315B49CC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g-fotki.yandex.ru/get/4522/81454286.366/0_889a9_2495e279_L.jpg"/>
          <p:cNvPicPr/>
          <p:nvPr/>
        </p:nvPicPr>
        <p:blipFill>
          <a:blip r:embed="rId1"/>
          <a:stretch/>
        </p:blipFill>
        <p:spPr>
          <a:xfrm>
            <a:off x="2475000" y="281160"/>
            <a:ext cx="3956040" cy="104104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-268200" y="5145120"/>
            <a:ext cx="9978840" cy="159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img-fotki.yandex.ru/get/4711/81454286.366/0_889b5_b008cbe1_XL.jpg"/>
          <p:cNvPicPr/>
          <p:nvPr/>
        </p:nvPicPr>
        <p:blipFill>
          <a:blip r:embed="rId1"/>
          <a:stretch/>
        </p:blipFill>
        <p:spPr>
          <a:xfrm>
            <a:off x="4071960" y="0"/>
            <a:ext cx="4767120" cy="66438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5181480"/>
            <a:ext cx="247464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img-fotki.yandex.ru/get/4415/81454286.366/0_889b6_827b3c55_XL.jpg"/>
          <p:cNvPicPr/>
          <p:nvPr/>
        </p:nvPicPr>
        <p:blipFill>
          <a:blip r:embed="rId1"/>
          <a:stretch/>
        </p:blipFill>
        <p:spPr>
          <a:xfrm>
            <a:off x="4125960" y="214200"/>
            <a:ext cx="4802040" cy="64296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2" descr=""/>
          <p:cNvPicPr/>
          <p:nvPr/>
        </p:nvPicPr>
        <p:blipFill>
          <a:blip r:embed="rId2"/>
          <a:stretch/>
        </p:blipFill>
        <p:spPr>
          <a:xfrm>
            <a:off x="517680" y="5181480"/>
            <a:ext cx="349380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img-fotki.yandex.ru/get/4521/81454286.366/0_889b7_5dfa94ac_XL.jpg"/>
          <p:cNvPicPr/>
          <p:nvPr/>
        </p:nvPicPr>
        <p:blipFill>
          <a:blip r:embed="rId1"/>
          <a:stretch/>
        </p:blipFill>
        <p:spPr>
          <a:xfrm>
            <a:off x="4160880" y="0"/>
            <a:ext cx="4759200" cy="67150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" descr=""/>
          <p:cNvPicPr/>
          <p:nvPr/>
        </p:nvPicPr>
        <p:blipFill>
          <a:blip r:embed="rId2"/>
          <a:stretch/>
        </p:blipFill>
        <p:spPr>
          <a:xfrm>
            <a:off x="324000" y="5181480"/>
            <a:ext cx="286992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img-fotki.yandex.ru/get/5816/81454286.366/0_889b8_fa7ad993_XL.jpg"/>
          <p:cNvPicPr/>
          <p:nvPr/>
        </p:nvPicPr>
        <p:blipFill>
          <a:blip r:embed="rId1"/>
          <a:stretch/>
        </p:blipFill>
        <p:spPr>
          <a:xfrm>
            <a:off x="4249800" y="0"/>
            <a:ext cx="48942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5181480"/>
            <a:ext cx="324324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img-fotki.yandex.ru/get/5310/81454286.366/0_889b9_8f33dece_XL.jpg"/>
          <p:cNvPicPr/>
          <p:nvPr/>
        </p:nvPicPr>
        <p:blipFill>
          <a:blip r:embed="rId1"/>
          <a:stretch/>
        </p:blipFill>
        <p:spPr>
          <a:xfrm>
            <a:off x="4143240" y="0"/>
            <a:ext cx="4746600" cy="67327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5181480"/>
            <a:ext cx="289548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img-fotki.yandex.ru/get/4522/81454286.366/0_889ba_dec545ac_XL.jpg"/>
          <p:cNvPicPr/>
          <p:nvPr/>
        </p:nvPicPr>
        <p:blipFill>
          <a:blip r:embed="rId1"/>
          <a:stretch/>
        </p:blipFill>
        <p:spPr>
          <a:xfrm>
            <a:off x="3929040" y="0"/>
            <a:ext cx="5214960" cy="6750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500040" y="5181480"/>
            <a:ext cx="249228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img-fotki.yandex.ru/get/4710/81454286.366/0_889bb_4041257d_XL.jpg"/>
          <p:cNvPicPr/>
          <p:nvPr/>
        </p:nvPicPr>
        <p:blipFill>
          <a:blip r:embed="rId1"/>
          <a:stretch/>
        </p:blipFill>
        <p:spPr>
          <a:xfrm>
            <a:off x="4240080" y="0"/>
            <a:ext cx="490392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5181480"/>
            <a:ext cx="349884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img-fotki.yandex.ru/get/5310/81454286.366/0_889bc_bfa3074f_XL.jpg"/>
          <p:cNvPicPr/>
          <p:nvPr/>
        </p:nvPicPr>
        <p:blipFill>
          <a:blip r:embed="rId1"/>
          <a:stretch/>
        </p:blipFill>
        <p:spPr>
          <a:xfrm>
            <a:off x="4071960" y="0"/>
            <a:ext cx="4849920" cy="674676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506520" y="5181480"/>
            <a:ext cx="278604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img-fotki.yandex.ru/get/4522/81454286.366/0_889bd_eca47b7c_XL.jpg"/>
          <p:cNvPicPr/>
          <p:nvPr/>
        </p:nvPicPr>
        <p:blipFill>
          <a:blip r:embed="rId1"/>
          <a:srcRect l="0" t="52530" r="0" b="0"/>
          <a:stretch/>
        </p:blipFill>
        <p:spPr>
          <a:xfrm>
            <a:off x="3762360" y="2928960"/>
            <a:ext cx="5154480" cy="35719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" descr=""/>
          <p:cNvPicPr/>
          <p:nvPr/>
        </p:nvPicPr>
        <p:blipFill>
          <a:blip r:embed="rId2"/>
          <a:stretch/>
        </p:blipFill>
        <p:spPr>
          <a:xfrm>
            <a:off x="328680" y="5181480"/>
            <a:ext cx="3139920" cy="1103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img-fotki.yandex.ru/get/4522/81454286.366/0_889bd_eca47b7c_XL.jpg"/>
          <p:cNvPicPr/>
          <p:nvPr/>
        </p:nvPicPr>
        <p:blipFill>
          <a:blip r:embed="rId3"/>
          <a:srcRect l="4421" t="3028" r="0" b="48486"/>
          <a:stretch/>
        </p:blipFill>
        <p:spPr>
          <a:xfrm>
            <a:off x="0" y="0"/>
            <a:ext cx="5214960" cy="386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img-fotki.yandex.ru/get/4521/81454286.366/0_889be_1364c3d5_XL.jpg"/>
          <p:cNvPicPr/>
          <p:nvPr/>
        </p:nvPicPr>
        <p:blipFill>
          <a:blip r:embed="rId1"/>
          <a:stretch/>
        </p:blipFill>
        <p:spPr>
          <a:xfrm>
            <a:off x="4253040" y="214200"/>
            <a:ext cx="4641840" cy="63579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500040" y="5181480"/>
            <a:ext cx="393228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img-fotki.yandex.ru/get/5310/81454286.366/0_889ad_252065ed_XL.jpg"/>
          <p:cNvPicPr/>
          <p:nvPr/>
        </p:nvPicPr>
        <p:blipFill>
          <a:blip r:embed="rId1"/>
          <a:srcRect l="24238" t="28129" r="0" b="10937"/>
          <a:stretch/>
        </p:blipFill>
        <p:spPr>
          <a:xfrm>
            <a:off x="4572000" y="1670040"/>
            <a:ext cx="4305240" cy="497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img-fotki.yandex.ru/get/5310/81454286.366/0_889ad_252065ed_XL.jpg"/>
          <p:cNvPicPr/>
          <p:nvPr/>
        </p:nvPicPr>
        <p:blipFill>
          <a:blip r:embed="rId2"/>
          <a:srcRect l="3725" t="4687" r="52331" b="70941"/>
          <a:stretch/>
        </p:blipFill>
        <p:spPr>
          <a:xfrm>
            <a:off x="357120" y="285840"/>
            <a:ext cx="4214880" cy="33573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3"/>
          <a:stretch/>
        </p:blipFill>
        <p:spPr>
          <a:xfrm>
            <a:off x="317520" y="5181480"/>
            <a:ext cx="427356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img-fotki.yandex.ru/get/4521/81454286.366/0_889bf_bc3418c1_XL.jpg"/>
          <p:cNvPicPr/>
          <p:nvPr/>
        </p:nvPicPr>
        <p:blipFill>
          <a:blip r:embed="rId1"/>
          <a:stretch/>
        </p:blipFill>
        <p:spPr>
          <a:xfrm>
            <a:off x="3786120" y="0"/>
            <a:ext cx="4786560" cy="68072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5181480"/>
            <a:ext cx="292572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img-fotki.yandex.ru/get/4521/81454286.367/0_889c0_15c34d27_XL.jpg"/>
          <p:cNvPicPr/>
          <p:nvPr/>
        </p:nvPicPr>
        <p:blipFill>
          <a:blip r:embed="rId1"/>
          <a:stretch/>
        </p:blipFill>
        <p:spPr>
          <a:xfrm>
            <a:off x="3857760" y="0"/>
            <a:ext cx="4975200" cy="66549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2"/>
          <a:stretch/>
        </p:blipFill>
        <p:spPr>
          <a:xfrm>
            <a:off x="311040" y="5181480"/>
            <a:ext cx="282276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447120" y="5929200"/>
            <a:ext cx="80841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айт «Школа АБВ»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http://www.shkola-ab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2749680" y="328680"/>
            <a:ext cx="2822400" cy="109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mg-fotki.yandex.ru/get/5817/81454286.366/0_889ae_93fad2da_XL.jpg"/>
          <p:cNvPicPr/>
          <p:nvPr/>
        </p:nvPicPr>
        <p:blipFill>
          <a:blip r:embed="rId1"/>
          <a:stretch/>
        </p:blipFill>
        <p:spPr>
          <a:xfrm>
            <a:off x="4643280" y="214200"/>
            <a:ext cx="3125880" cy="66438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324000" y="5181480"/>
            <a:ext cx="227952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-fotki.yandex.ru/get/5816/81454286.366/0_889af_e10dc0c2_XL.jpg"/>
          <p:cNvPicPr/>
          <p:nvPr/>
        </p:nvPicPr>
        <p:blipFill>
          <a:blip r:embed="rId1"/>
          <a:stretch/>
        </p:blipFill>
        <p:spPr>
          <a:xfrm>
            <a:off x="3760920" y="-6480"/>
            <a:ext cx="4840200" cy="68644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5181480"/>
            <a:ext cx="274320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-fotki.yandex.ru/get/5817/81454286.366/0_889b0_a809868b_XL.jpg"/>
          <p:cNvPicPr/>
          <p:nvPr/>
        </p:nvPicPr>
        <p:blipFill>
          <a:blip r:embed="rId1"/>
          <a:stretch/>
        </p:blipFill>
        <p:spPr>
          <a:xfrm>
            <a:off x="3929040" y="0"/>
            <a:ext cx="5033880" cy="66200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324000" y="5181480"/>
            <a:ext cx="228600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mg-fotki.yandex.ru/get/4613/81454286.366/0_889b1_f7ea7f75_XL.jpg"/>
          <p:cNvPicPr/>
          <p:nvPr/>
        </p:nvPicPr>
        <p:blipFill>
          <a:blip r:embed="rId1"/>
          <a:stretch/>
        </p:blipFill>
        <p:spPr>
          <a:xfrm>
            <a:off x="4214880" y="174600"/>
            <a:ext cx="4572000" cy="63835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2"/>
          <a:stretch/>
        </p:blipFill>
        <p:spPr>
          <a:xfrm>
            <a:off x="500040" y="5181480"/>
            <a:ext cx="332280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-fotki.yandex.ru/get/5411/81454286.366/0_889b2_ea15b9c0_XL.jpg"/>
          <p:cNvPicPr/>
          <p:nvPr/>
        </p:nvPicPr>
        <p:blipFill>
          <a:blip r:embed="rId1"/>
          <a:stretch/>
        </p:blipFill>
        <p:spPr>
          <a:xfrm>
            <a:off x="3857760" y="120600"/>
            <a:ext cx="4910040" cy="67374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5181480"/>
            <a:ext cx="210204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g-fotki.yandex.ru/get/5816/81454286.366/0_889b3_4f0db9d5_XL.jpg"/>
          <p:cNvPicPr/>
          <p:nvPr/>
        </p:nvPicPr>
        <p:blipFill>
          <a:blip r:embed="rId1"/>
          <a:stretch/>
        </p:blipFill>
        <p:spPr>
          <a:xfrm>
            <a:off x="3857760" y="166680"/>
            <a:ext cx="4767120" cy="66913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2" descr=""/>
          <p:cNvPicPr/>
          <p:nvPr/>
        </p:nvPicPr>
        <p:blipFill>
          <a:blip r:embed="rId2"/>
          <a:stretch/>
        </p:blipFill>
        <p:spPr>
          <a:xfrm>
            <a:off x="317520" y="5181480"/>
            <a:ext cx="371808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g-fotki.yandex.ru/get/4415/81454286.366/0_889b4_6cdfbb5a_XL.jpg"/>
          <p:cNvPicPr/>
          <p:nvPr/>
        </p:nvPicPr>
        <p:blipFill>
          <a:blip r:embed="rId1"/>
          <a:stretch/>
        </p:blipFill>
        <p:spPr>
          <a:xfrm>
            <a:off x="4071960" y="38160"/>
            <a:ext cx="4643280" cy="66326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2" descr=""/>
          <p:cNvPicPr/>
          <p:nvPr/>
        </p:nvPicPr>
        <p:blipFill>
          <a:blip r:embed="rId2"/>
          <a:stretch/>
        </p:blipFill>
        <p:spPr>
          <a:xfrm>
            <a:off x="512640" y="5181480"/>
            <a:ext cx="3364200" cy="11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7:39:04Z</dcterms:created>
  <dc:creator>Helen</dc:creator>
  <dc:description/>
  <dc:language>en-US</dc:language>
  <cp:lastModifiedBy>Boris</cp:lastModifiedBy>
  <dcterms:modified xsi:type="dcterms:W3CDTF">2012-12-15T08:09:07Z</dcterms:modified>
  <cp:revision>4</cp:revision>
  <dc:subject/>
  <dc:title>Слайд 1</dc:title>
</cp:coreProperties>
</file>