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40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42.png" ContentType="image/png"/>
  <Override PartName="/ppt/media/image43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06E-7AAC-4549-9F1F-60CD90C3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FA4-CC04-4EB5-A4E2-723BE9C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D58-D8C1-44E5-8B80-6DA31F79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9FD-DC7D-4DC7-A496-5CE1C12B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B5A-2F8E-4F48-8709-7752E0FF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A30-0066-4C7C-AC20-17B471BA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A8C-1B9F-47AB-8B7C-E096360B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1E6-BD23-4371-97DF-1BA3994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9D2-0AA9-4ECC-BE58-A68C635A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841-CD88-43AF-9C13-2EED829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AFB-AE96-4F83-B25D-F05F934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1B9-4C88-4D61-B732-30FCB33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03D-CCFA-433A-8B3E-CA9FCEC16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4522/81454286.366/0_889a9_2495e279_L.jpg"/>
          <p:cNvPicPr/>
          <p:nvPr/>
        </p:nvPicPr>
        <p:blipFill>
          <a:blip r:embed="rId1"/>
          <a:stretch/>
        </p:blipFill>
        <p:spPr>
          <a:xfrm>
            <a:off x="2475000" y="281160"/>
            <a:ext cx="3956040" cy="10410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-268200" y="5145120"/>
            <a:ext cx="9978840" cy="15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g-fotki.yandex.ru/get/4711/81454286.366/0_889b5_b008cbe1_XL.jpg"/>
          <p:cNvPicPr/>
          <p:nvPr/>
        </p:nvPicPr>
        <p:blipFill>
          <a:blip r:embed="rId1"/>
          <a:stretch/>
        </p:blipFill>
        <p:spPr>
          <a:xfrm>
            <a:off x="4071960" y="0"/>
            <a:ext cx="4767120" cy="66438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4746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g-fotki.yandex.ru/get/4415/81454286.366/0_889b6_827b3c55_XL.jpg"/>
          <p:cNvPicPr/>
          <p:nvPr/>
        </p:nvPicPr>
        <p:blipFill>
          <a:blip r:embed="rId1"/>
          <a:stretch/>
        </p:blipFill>
        <p:spPr>
          <a:xfrm>
            <a:off x="4125960" y="214200"/>
            <a:ext cx="4802040" cy="64296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517680" y="5181480"/>
            <a:ext cx="34938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-fotki.yandex.ru/get/4521/81454286.366/0_889b7_5dfa94ac_XL.jpg"/>
          <p:cNvPicPr/>
          <p:nvPr/>
        </p:nvPicPr>
        <p:blipFill>
          <a:blip r:embed="rId1"/>
          <a:stretch/>
        </p:blipFill>
        <p:spPr>
          <a:xfrm>
            <a:off x="4160880" y="0"/>
            <a:ext cx="4759200" cy="67150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8699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-fotki.yandex.ru/get/5816/81454286.366/0_889b8_fa7ad993_XL.jpg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32432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g-fotki.yandex.ru/get/5310/81454286.366/0_889b9_8f33dece_XL.jpg"/>
          <p:cNvPicPr/>
          <p:nvPr/>
        </p:nvPicPr>
        <p:blipFill>
          <a:blip r:embed="rId1"/>
          <a:stretch/>
        </p:blipFill>
        <p:spPr>
          <a:xfrm>
            <a:off x="4143240" y="0"/>
            <a:ext cx="4746600" cy="6732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8954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img-fotki.yandex.ru/get/4522/81454286.366/0_889ba_dec545ac_XL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750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24922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g-fotki.yandex.ru/get/4710/81454286.366/0_889bb_4041257d_XL.jpg"/>
          <p:cNvPicPr/>
          <p:nvPr/>
        </p:nvPicPr>
        <p:blipFill>
          <a:blip r:embed="rId1"/>
          <a:stretch/>
        </p:blipFill>
        <p:spPr>
          <a:xfrm>
            <a:off x="4240080" y="0"/>
            <a:ext cx="4903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34988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5310/81454286.366/0_889bc_bfa3074f_XL.jpg"/>
          <p:cNvPicPr/>
          <p:nvPr/>
        </p:nvPicPr>
        <p:blipFill>
          <a:blip r:embed="rId1"/>
          <a:stretch/>
        </p:blipFill>
        <p:spPr>
          <a:xfrm>
            <a:off x="4071960" y="0"/>
            <a:ext cx="4849920" cy="67467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7860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mg-fotki.yandex.ru/get/4522/81454286.366/0_889bd_eca47b7c_XL.jpg"/>
          <p:cNvPicPr/>
          <p:nvPr/>
        </p:nvPicPr>
        <p:blipFill>
          <a:blip r:embed="rId1"/>
          <a:srcRect l="0" t="52530" r="0" b="0"/>
          <a:stretch/>
        </p:blipFill>
        <p:spPr>
          <a:xfrm>
            <a:off x="3762360" y="2928960"/>
            <a:ext cx="515448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5181480"/>
            <a:ext cx="3139920" cy="110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g-fotki.yandex.ru/get/4522/81454286.366/0_889bd_eca47b7c_XL.jpg"/>
          <p:cNvPicPr/>
          <p:nvPr/>
        </p:nvPicPr>
        <p:blipFill>
          <a:blip r:embed="rId3"/>
          <a:srcRect l="4421" t="3028" r="0" b="48486"/>
          <a:stretch/>
        </p:blipFill>
        <p:spPr>
          <a:xfrm>
            <a:off x="0" y="0"/>
            <a:ext cx="5214960" cy="38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g-fotki.yandex.ru/get/4521/81454286.366/0_889be_1364c3d5_XL.jpg"/>
          <p:cNvPicPr/>
          <p:nvPr/>
        </p:nvPicPr>
        <p:blipFill>
          <a:blip r:embed="rId1"/>
          <a:stretch/>
        </p:blipFill>
        <p:spPr>
          <a:xfrm>
            <a:off x="4253040" y="214200"/>
            <a:ext cx="4641840" cy="63579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39322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g-fotki.yandex.ru/get/5310/81454286.366/0_889ad_252065ed_XL.jpg"/>
          <p:cNvPicPr/>
          <p:nvPr/>
        </p:nvPicPr>
        <p:blipFill>
          <a:blip r:embed="rId1"/>
          <a:srcRect l="24238" t="28129" r="0" b="10937"/>
          <a:stretch/>
        </p:blipFill>
        <p:spPr>
          <a:xfrm>
            <a:off x="4572000" y="1670040"/>
            <a:ext cx="4305240" cy="497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img-fotki.yandex.ru/get/5310/81454286.366/0_889ad_252065ed_XL.jpg"/>
          <p:cNvPicPr/>
          <p:nvPr/>
        </p:nvPicPr>
        <p:blipFill>
          <a:blip r:embed="rId2"/>
          <a:srcRect l="3725" t="4687" r="52331" b="70941"/>
          <a:stretch/>
        </p:blipFill>
        <p:spPr>
          <a:xfrm>
            <a:off x="357120" y="28584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317520" y="5181480"/>
            <a:ext cx="427356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g-fotki.yandex.ru/get/4521/81454286.366/0_889bf_bc3418c1_XL.jpg"/>
          <p:cNvPicPr/>
          <p:nvPr/>
        </p:nvPicPr>
        <p:blipFill>
          <a:blip r:embed="rId1"/>
          <a:stretch/>
        </p:blipFill>
        <p:spPr>
          <a:xfrm>
            <a:off x="3786120" y="0"/>
            <a:ext cx="4786560" cy="6807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9257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mg-fotki.yandex.ru/get/4521/81454286.367/0_889c0_15c34d27_XL.jpg"/>
          <p:cNvPicPr/>
          <p:nvPr/>
        </p:nvPicPr>
        <p:blipFill>
          <a:blip r:embed="rId1"/>
          <a:stretch/>
        </p:blipFill>
        <p:spPr>
          <a:xfrm>
            <a:off x="3857760" y="0"/>
            <a:ext cx="4975200" cy="6654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311040" y="5181480"/>
            <a:ext cx="282276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47120" y="5929200"/>
            <a:ext cx="8084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йт «Школа АБВ»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http://www.shkola-ab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2749680" y="328680"/>
            <a:ext cx="2822400" cy="109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-fotki.yandex.ru/get/5817/81454286.366/0_889ae_93fad2da_XL.jpg"/>
          <p:cNvPicPr/>
          <p:nvPr/>
        </p:nvPicPr>
        <p:blipFill>
          <a:blip r:embed="rId1"/>
          <a:stretch/>
        </p:blipFill>
        <p:spPr>
          <a:xfrm>
            <a:off x="4643280" y="214200"/>
            <a:ext cx="3125880" cy="66438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2795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5816/81454286.366/0_889af_e10dc0c2_XL.jpg"/>
          <p:cNvPicPr/>
          <p:nvPr/>
        </p:nvPicPr>
        <p:blipFill>
          <a:blip r:embed="rId1"/>
          <a:stretch/>
        </p:blipFill>
        <p:spPr>
          <a:xfrm>
            <a:off x="3760920" y="-6480"/>
            <a:ext cx="4840200" cy="6864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7432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817/81454286.366/0_889b0_a809868b_XL.jpg"/>
          <p:cNvPicPr/>
          <p:nvPr/>
        </p:nvPicPr>
        <p:blipFill>
          <a:blip r:embed="rId1"/>
          <a:stretch/>
        </p:blipFill>
        <p:spPr>
          <a:xfrm>
            <a:off x="3929040" y="0"/>
            <a:ext cx="5033880" cy="66200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2860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-fotki.yandex.ru/get/4613/81454286.366/0_889b1_f7ea7f75_XL.jpg"/>
          <p:cNvPicPr/>
          <p:nvPr/>
        </p:nvPicPr>
        <p:blipFill>
          <a:blip r:embed="rId1"/>
          <a:stretch/>
        </p:blipFill>
        <p:spPr>
          <a:xfrm>
            <a:off x="4214880" y="174600"/>
            <a:ext cx="4572000" cy="6383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33228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5411/81454286.366/0_889b2_ea15b9c0_XL.jpg"/>
          <p:cNvPicPr/>
          <p:nvPr/>
        </p:nvPicPr>
        <p:blipFill>
          <a:blip r:embed="rId1"/>
          <a:stretch/>
        </p:blipFill>
        <p:spPr>
          <a:xfrm>
            <a:off x="3857760" y="120600"/>
            <a:ext cx="4910040" cy="6737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1020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-fotki.yandex.ru/get/5816/81454286.366/0_889b3_4f0db9d5_XL.jpg"/>
          <p:cNvPicPr/>
          <p:nvPr/>
        </p:nvPicPr>
        <p:blipFill>
          <a:blip r:embed="rId1"/>
          <a:stretch/>
        </p:blipFill>
        <p:spPr>
          <a:xfrm>
            <a:off x="3857760" y="166680"/>
            <a:ext cx="4767120" cy="66913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5181480"/>
            <a:ext cx="37180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-fotki.yandex.ru/get/4415/81454286.366/0_889b4_6cdfbb5a_XL.jpg"/>
          <p:cNvPicPr/>
          <p:nvPr/>
        </p:nvPicPr>
        <p:blipFill>
          <a:blip r:embed="rId1"/>
          <a:stretch/>
        </p:blipFill>
        <p:spPr>
          <a:xfrm>
            <a:off x="4071960" y="38160"/>
            <a:ext cx="4643280" cy="66326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33642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7:39:04Z</dcterms:created>
  <dc:creator>Helen</dc:creator>
  <dc:description/>
  <dc:language>en-US</dc:language>
  <cp:lastModifiedBy>Boris</cp:lastModifiedBy>
  <dcterms:modified xsi:type="dcterms:W3CDTF">2012-12-15T08:09:07Z</dcterms:modified>
  <cp:revision>4</cp:revision>
  <dc:subject/>
  <dc:title>Слайд 1</dc:title>
</cp:coreProperties>
</file>