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882-C01C-42F8-A8E5-56DB3501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AC6-DB2E-410B-B4FB-2012C56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9D0-AFAA-460D-8945-A3969160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103-34B5-487C-BCBC-AB410C7D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B8E-3963-480B-B0BF-5C615739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E98-C55C-49C8-9517-E0D4FB30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98C-D0E2-4020-A9B1-82BF7234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816-E3B7-42F9-9F0C-432D2A3B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4EF-99F2-4B2B-82D8-9497D22B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677-F24E-4741-8F8F-B35E8A08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107-0B61-43F0-AD59-93CDF8D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9CF-DD11-44BE-ADDE-1BF3BF7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7C48-C524-4E31-B1C4-4BB486342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16.radikal.ru/i190/1101/96/9657f1204695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s40.radikal.ru/i087/1101/96/b8fa96b25959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039.radikal.ru/1101/83/8b421ed4a87a.jpg"/>
          <p:cNvPicPr/>
          <p:nvPr/>
        </p:nvPicPr>
        <p:blipFill>
          <a:blip r:embed="rId1"/>
          <a:stretch/>
        </p:blipFill>
        <p:spPr>
          <a:xfrm>
            <a:off x="-57240" y="0"/>
            <a:ext cx="691524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s009.radikal.ru/i308/1101/e6/61c229ccbfc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012.radikal.ru/1101/40/a04e8fa3f8f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0.liveinternet.ru/images/attach/c/1/61/810/61810941_1279761551_91.gif"/>
          <p:cNvPicPr/>
          <p:nvPr/>
        </p:nvPicPr>
        <p:blipFill>
          <a:blip r:embed="rId1"/>
          <a:stretch/>
        </p:blipFill>
        <p:spPr>
          <a:xfrm>
            <a:off x="1357200" y="8001000"/>
            <a:ext cx="3845160" cy="588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828800" y="158760"/>
            <a:ext cx="276228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428760" y="5929200"/>
            <a:ext cx="564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я сайта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://www.liveinternet.ru/users/tanya_4e4e/post23142704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йт: «Школа АБВ»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s59.radikal.ru/i165/1101/fb/c189440c836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080.radikal.ru/1101/1c/eb703dece91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004.radikal.ru/1101/a3/097a8d37279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9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046.radikal.ru/1101/6e/7185722eb0c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s46.radikal.ru/i113/1101/66/b8752dd9737c.jpg"/>
          <p:cNvPicPr/>
          <p:nvPr/>
        </p:nvPicPr>
        <p:blipFill>
          <a:blip r:embed="rId1"/>
          <a:stretch/>
        </p:blipFill>
        <p:spPr>
          <a:xfrm>
            <a:off x="-14400" y="0"/>
            <a:ext cx="68724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s004.radikal.ru/i206/1101/f4/c717a1ab7a9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22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s59.radikal.ru/i166/1101/8a/5891c6b2202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9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013.radikal.ru/i323/1101/fe/63ad0409bf47.jpg"/>
          <p:cNvPicPr/>
          <p:nvPr/>
        </p:nvPicPr>
        <p:blipFill>
          <a:blip r:embed="rId1"/>
          <a:stretch/>
        </p:blipFill>
        <p:spPr>
          <a:xfrm>
            <a:off x="-14400" y="0"/>
            <a:ext cx="68724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6:49:00Z</dcterms:created>
  <dc:creator>Helen</dc:creator>
  <dc:description/>
  <dc:language>en-US</dc:language>
  <cp:lastModifiedBy>Boris</cp:lastModifiedBy>
  <dcterms:modified xsi:type="dcterms:W3CDTF">2012-12-05T15:10:15Z</dcterms:modified>
  <cp:revision>4</cp:revision>
  <dc:subject/>
  <dc:title>Слайд 1</dc:title>
</cp:coreProperties>
</file>